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DB6-2DC3-423E-A1AB-61D22199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6C4-9B0E-4D5B-808E-E25D187F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E85-D13B-4583-BAD7-3E4483C9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B12-3120-4B29-B0B6-4CA3B2A7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019-6425-4DF3-8E06-E5EEE4A4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EAD-E354-49AD-9FDC-53E8FFB5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0B5-FA56-4C95-9A85-CF4EBB20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163-4EAF-41BF-8D9A-501937ED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B54-3AB8-4F4C-9F6F-9AA5895B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A72-303B-45FC-949E-476626E2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14B-3031-4E17-B4A3-BD3CEA22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197-9F73-4BB0-B3CC-FADDE471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A4F8-AF1F-4F75-AC6C-990AEA70E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mless Ru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racy Allen Pe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ver all it changed they became faster they improved I was right they were fast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urther Resear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need to test more people next time. Maybe have then run 2 time per thing tied not t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jor observ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people slipped at the beginning of the run make share ever one has running sh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ssible Causes Err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ke share that ever one has a belt and good sho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se moving you arms affect how fast you can ru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Hypoth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think it will affect how fast you run if you don’t move your arms. I think it will affect boys more because they always have to be doing something or touch someth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will need 5 boys, rope, stop watch, meter stic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rden, cody, jadye, brain, camora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there arms to there ch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5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hem running the 50m with and with out being t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variab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people run faster moving there arms or without movie there arms. Dose it affect girls or boys 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distance will always be 24 yard and 14 1/2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trolled Vari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distance is the same through the hole experi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ame    Distance    time tied sec      not tied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ayde    24y 14.5in        5.78                5.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ane     24y 14.5in       5.34                 4.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ex      24y 14.5in       5.12                5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llas   24y 14.5in       5.00               4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us       24y 14.5in       5.32               4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rew 24y 14.5in       5.41              5.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4:57:44Z</dcterms:created>
  <dc:creator>USD376</dc:creator>
  <dc:description/>
  <dc:language>en-US</dc:language>
  <cp:lastModifiedBy>USD376</cp:lastModifiedBy>
  <dcterms:modified xsi:type="dcterms:W3CDTF">2011-02-23T14:43:57Z</dcterms:modified>
  <cp:revision>5</cp:revision>
  <dc:subject/>
  <dc:title>Armless Runner</dc:title>
</cp:coreProperties>
</file>